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9BF-A9CB-4192-AFE1-8A1B0238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7DA-CC0B-4BFB-A32E-612F0B13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A81-5E2E-425C-BD01-7752BFA5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FFF-281D-4A87-B566-5DFCD2C9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08F7-A4AA-48D1-8148-229AE93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D838-6259-48E1-8275-A7FC3D23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0316-E2B8-4DE0-97CD-94291CA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910-3251-4279-90ED-5FDFD892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B28B-BC4D-4108-96BF-DC01D06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89F-12B6-4ECF-8D70-CA1181D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277A-3631-46A6-9AB3-8F9228A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E03-F384-4D9B-B032-69FBFE6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F6E-AD55-45B4-B3B9-BF80B9A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4D69-D27F-471D-8559-B8DDEFE8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B335-92FE-4080-AB7C-773A55B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BD6-369B-4C03-9061-ABFE2147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AFDD-84A6-449E-8244-F2962C8E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FA4-86C1-4B9D-9755-687C6A71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E7B-15DB-4926-80C6-0F42EECD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6EA-E275-4566-B64B-55842C9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FCB-B868-45A0-8C46-215B18A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08D-793A-43E6-890B-38173108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818-2E5C-4EAF-A774-96544AD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906-B51C-402B-8FA2-5BAA9D0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D911-A9CC-4C3E-93EE-91653408B271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CEE7-B917-422E-9391-93B6C928F89E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0666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Lesson On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A Private Conversation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NA00864_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514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sk and answer in pair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ere did you go last week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have a good sea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as it an interesting pl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 enjoyed the play, didn’t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o was sitting behind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hear what the actors were say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couldn’t you hea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were they do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get angry with them or no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 the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y didn’t pay any attention, did the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bear i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the young man s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609480"/>
            <a:ext cx="7178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ast week---went---thea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enjoy---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oung man---woman---behind 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alking loud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uld not ---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turned---and looked---angr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pay---atten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the end---couldn’t be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an’t hear---word’---sa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one---business’---man---’private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id the writer complain to the people behind hi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mplain (to sb.) about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2420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always _________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抱怨天气不好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905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lains about the bad weat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6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complained that 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屋子里太热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2640" y="30481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om was too h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34340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生们向老师抱怨作业太多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724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students sometimes complain to the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achers about too much homework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970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st week I went to the theatre. I had a very good seat. The play was very interesting. I did not </a:t>
            </a:r>
            <a:r>
              <a:rPr b="0" lang="en-US" sz="32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enjo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it. A young man and a young woman were sitting behind me. They were talking loudly. I got very angry. I could not hear the actors. I turned round. I looked at the man and the woman angrily. They did not pay any attention. In the end, I could not bear it. I turned round again. ‘I can’t hear a word!’ I said angril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none of your business,’ the young man said rudely. “This is a private conversation!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552600"/>
            <a:ext cx="50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esel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. enjo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doing)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43200" y="15238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2590920"/>
            <a:ext cx="57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he play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alking with him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him. (×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601992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14591" y="3837"/>
                </a:moveTo>
                <a:lnTo>
                  <a:pt x="17167" y="6448"/>
                </a:ln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lnTo>
                  <a:pt x="21554" y="10800"/>
                </a:lnTo>
                <a:lnTo>
                  <a:pt x="19900" y="10800"/>
                </a:lnTo>
                <a:lnTo>
                  <a:pt x="19900" y="17989"/>
                </a:lnTo>
                <a:lnTo>
                  <a:pt x="9282" y="17989"/>
                </a:lnTo>
                <a:lnTo>
                  <a:pt x="9282" y="10800"/>
                </a:lnTo>
                <a:lnTo>
                  <a:pt x="7628" y="10800"/>
                </a:lnTo>
                <a:close/>
              </a:path>
              <a:path fill="darkenLess" w="29182" h="21600">
                <a:moveTo>
                  <a:pt x="17167" y="6448"/>
                </a:move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close/>
              </a:path>
              <a:path fill="darkenLess" w="29182" h="21600">
                <a:moveTo>
                  <a:pt x="13669" y="14299"/>
                </a:moveTo>
                <a:lnTo>
                  <a:pt x="15514" y="14299"/>
                </a:lnTo>
                <a:lnTo>
                  <a:pt x="15514" y="17989"/>
                </a:lnTo>
                <a:lnTo>
                  <a:pt x="19900" y="17989"/>
                </a:lnTo>
                <a:lnTo>
                  <a:pt x="19900" y="10800"/>
                </a:lnTo>
                <a:lnTo>
                  <a:pt x="9282" y="10800"/>
                </a:lnTo>
                <a:lnTo>
                  <a:pt x="9282" y="17989"/>
                </a:lnTo>
                <a:lnTo>
                  <a:pt x="13669" y="17989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523880"/>
          <a:ext cx="8686800" cy="426744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How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re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o the theat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14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simple stat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9040" y="22536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 writ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1436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writer went to the theatre last week. He did not enjoy the play. A young man and a young woman were sitting behind him. They were talking loudly. The writer could not hear the actors. He turned round. ‘I can’t hear a word!’ he said. “This is a private conversation!’ the young man sai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5words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3:50:41Z</dcterms:created>
  <dc:creator/>
  <dc:description/>
  <dc:language>en-US</dc:language>
  <cp:lastModifiedBy>st</cp:lastModifiedBy>
  <dcterms:modified xsi:type="dcterms:W3CDTF">2002-07-10T01:35:47Z</dcterms:modified>
  <cp:revision>14</cp:revision>
  <dc:subject/>
  <dc:title>PowerPoint 演示文稿</dc:title>
</cp:coreProperties>
</file>